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324C-C983-48B2-B005-14EECCB2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81FD-132E-4666-AA45-A9702E81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D5E9-EE40-478C-8EF3-94368F4F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C8E1-1526-416D-941C-91A069B0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A1E8-83FD-440D-BF57-E0D6E28E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CA63-FC17-4638-AB92-DFF49C9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3B58-7766-4459-AC56-FD09E3A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A51-51DB-4A0C-A916-D970168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9AF-6B2A-4407-A064-9EB87DBD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D53-F38F-4AEA-9D7F-AEA652DC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CCFD-F2F4-472D-B83E-7DFA06E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AA37-44C3-4549-B902-9E6E7C5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2147-5216-48F1-AF57-15B7804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B882-EA5C-4EED-9133-EC2F8064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389A-E9CB-4B63-A021-7C0BA587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965-6879-4B5D-80F8-5DBBC95D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37A5-B0EB-42AB-99F1-97BD50F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83C0-9EF1-45FA-B595-12B6CBD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29DB-AF98-403A-9E4C-8EF4854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68D5-1287-47EE-83D4-F1889E9B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CCA6-3AC0-4DA6-AC26-094BD86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F0F9-625E-4A9D-8284-24C037D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1BB7-8A54-44D2-85B7-D8C1196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203B-083F-433F-B450-BA0B597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026-BA4E-4D96-A176-2D99638084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6076-EF3D-475C-9CC7-A15B902E24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ziałania na ułamkach dziesiętnych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Mnożenie ułamków dziesiętnych przez 10, 100, 1000, ..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 mnożeniu ułamka dziesiętnego przez 10, 100, 1000, przesuwamy przecinek odpowiednio o 1, 2, 3 miejsca w pra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Na podstawie rysunku uzupełnij zapis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15120" cy="225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191628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0,02 zł · 10 = ...... z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nożen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2 · 10 =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,51 · 10 = 125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,223 · 100 = 52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7 · 100 =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0046 · 1000 = 4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5 · 1000 = 35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noż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ożąc dwa ułamki dziesiętne, wykonujemy działania tak, jak na liczbach naturalnych,              a w otrzymanym wyniku oddzielamy przecinkiem (licząc od prawej strony) tyle cyfr, i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ło łącznie po przecinku w obu czynnik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gorytm mnożenia liczb dziesiętnych możemy podzielić na następujące etapy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Plik:Liczby dziesietne11.svg"/>
          <p:cNvPicPr/>
          <p:nvPr/>
        </p:nvPicPr>
        <p:blipFill>
          <a:blip r:embed="rId1"/>
          <a:stretch/>
        </p:blipFill>
        <p:spPr>
          <a:xfrm>
            <a:off x="684360" y="2060640"/>
            <a:ext cx="777708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60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95640" y="69228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ożąc ułamki podpisujemy 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en sposób, aby ostatnia cyfra jednego ułamka była pod ostatnią cyfrą drugiego ułam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04836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zielenie ułamków dziesiętnych przez 10, 100, 1000, ..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zy dzieleniu ułamka dziesiętnego przez 10, 100, 1000, przesuwamy przecinek odpowiednio o 1, 2, 3 miejsca w le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4 : 10 = 2,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39 : 10 =0,1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12,3 : 100 =8,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7 : 100 = 0,0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,5 : 1000 =0,00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 : 1000 = 0,0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y obliczamy iloraz dwóch ułamków dziesiętnych, najpierw przesuwamy przecinek            w prawą stronę o tyle miejsc, aby nie było           go w drugiej liczbie (aby dzielnik stał się liczbą naturalną). Następnie wykonujemy dzielen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ekawostk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ykonujemy obliczenia arytmetyczne, często posługujemy się ułamkami dziesiętnymi  i trudno dziś wyobrazić sobie czas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 użyciu były tylko ułamki zwykł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pis dziesiętny liczb został opracowany w XV wieku przez perskiego matematyka Al-Kasz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go dzi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iftah al-hisab  (Klucz do arytmetyk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ddzielenie przecinkiem całości od części dziesiętnych było pomysłem angielskiego matematyka. J. Ne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43 : 0,3 = 144,3 : 3 =48,1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       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,5 : 0,25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50 : 25 = 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103640" cy="38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 dzieleniu ułamka dziesiętnego przez liczbę w wyniku w odpowiednim miejscu                            (nad przecinkiem dzielnej)                      stawiamy przeci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1589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Zada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arysia zmierzyła 500 kartek i otrzymała wynik 5,2 cm. Jaką grubość ma jedna kartk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Plik:Dzielenie kartk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74328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http://wiki.wolnepodreczniki.pl/Matematyka:Gimnazjum/Liczby_wymierne_1#Spos.C3.B3b_rzym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ek dziesiętny to ułamek o mianowni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 100, 1000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ki dziesiętne zapisuje się bez kreski ułamkowej, ale specjalną funkcję pełni przecinek dziesiętny (w krajach anglosaskich                      kropka), który oddziela                                część całkowitą od części                          ułamkow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cz&amp;eogon;&amp;sacute;ci dziesi&amp;eogon;tne i u&amp;lstrok;amkowe "/>
          <p:cNvPicPr/>
          <p:nvPr/>
        </p:nvPicPr>
        <p:blipFill>
          <a:blip r:embed="rId1"/>
          <a:stretch/>
        </p:blipFill>
        <p:spPr>
          <a:xfrm>
            <a:off x="6227640" y="2997360"/>
            <a:ext cx="263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dy czytamy liczbę zapisaną w postaci dziesiętnej, patrzymy w jakim rzędzie znajduje się cyfra zapisana jako ostatni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Plik:Liczby dziesiet 3.svg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7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amiętaj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y dodawaniu i odejmowaniu ułamków dziesiętnych sposobem pisemnym, należy podpisać je w ten sposób, aby przecinek          był pod przecinkiem,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dności pod jednościami, części dziesiąte pod częściami dziesiątymi i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27 + 3,1 + 8,135 = 17,5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3,2 - 6,366 = 76,8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przypadku odejmowania, jeżeli odjemna ma mniej miejsc po przecinku niż odjemnik, miejsca te uzupełniamy zeram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44144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158436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Plik:Liczby dziesiet 7.svg"/>
          <p:cNvPicPr/>
          <p:nvPr/>
        </p:nvPicPr>
        <p:blipFill>
          <a:blip r:embed="rId1"/>
          <a:stretch/>
        </p:blipFill>
        <p:spPr>
          <a:xfrm>
            <a:off x="250920" y="3789360"/>
            <a:ext cx="8569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lik:Liczby dziesiet 5.sv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79640" cy="24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2736720" cy="23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wartość zakupów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424800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33:25Z</dcterms:created>
  <dc:creator>x</dc:creator>
  <dc:description/>
  <dc:language>en-US</dc:language>
  <cp:lastModifiedBy>Matematyka</cp:lastModifiedBy>
  <dcterms:modified xsi:type="dcterms:W3CDTF">2013-05-03T19:44:20Z</dcterms:modified>
  <cp:revision>31</cp:revision>
  <dc:subject/>
  <dc:title>Działania na ułamkach dziesiętnych.</dc:title>
</cp:coreProperties>
</file>